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83EC-896C-435E-AFAE-09CAC7A65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4 KICK OFF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A28-8A49-4878-BB3E-141D1A49D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How do the Men of Cornerstone seek to accomplish this?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uild a Commun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events that draw men &amp; begins or builds connection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&amp; promote worship servic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&amp; promote small groups (men’s &amp; co-ed)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&amp; promote service opportuniti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ntered on Jesus Chri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events that help Men begin &amp; build their relationship with Go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en’s Semina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en’s Praise &amp; Worship Servic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small groups that help men with spiritual formation &amp; disciplin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vesting in the Next Genera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arenting Small Groups &amp; Seminar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tentionally inviting all generations of men to events &amp; service opportuniti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courage involvement in Youth &amp; Kids Ministr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1 on 1 relationships through the ConectGEN Mentoring Progra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rving a World in Ne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fer Men’s Service Day(s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courage &amp; promote weekly Servants Heart Ministry opportunitie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courage &amp; promote local minist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ummer Harve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tar of Hop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elief B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olid Foundatio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amp Shilo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ssions Trips (Winter in New Orleans &amp; Summer in TBD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C44B-3F48-485D-BB43-9BAAEFB30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19AC-0854-4170-BFB3-ED287701B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6AF1-C6E3-4D31-8457-D2E00381A9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D74B9-66EC-416F-B8D5-D73FB523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F9BEA-657C-4D3A-ACAF-58056B53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CB979-5034-4C8A-9420-379C2FA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953D4-174D-4F1A-8CBD-B2380C7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188E1-22F6-4923-945E-2DB43AB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7C5B5-519D-4BA8-A558-4F3C699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876F6-ED33-4E41-BA09-9068EED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C9DC-C24C-413E-8666-52D08469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6091B-027B-4EF9-B72A-56B7DC2D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A156D-E48A-4E81-8676-CB156642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9058-E735-46FA-9D1D-AE85394AD8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EB730-493A-4587-81BB-1BD77858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5E941-986A-4FEB-AA60-92CF7845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A973C-0623-4FC6-819B-C01E9D48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414F2-4B91-4747-ABC9-780E92E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9DB7F-3DC6-4EF7-9492-F152EA8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95C80-5430-4E34-B81D-8B8F8F7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AD04-CA1F-4433-AF85-0D2231B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DBC1E-D923-4061-A6B7-BA0B09D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4E7E9-6424-4E98-B104-3243C8E8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9C077-DAD9-4393-BF2F-D4613E23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E585-D411-483A-9F9A-A384712164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6FA09-4FD4-406B-9986-F80E84A3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FEAA5E-32F3-4711-B88A-976580AE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893749-8F97-4A27-A60E-714F84C8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52D013-251A-4A1B-8E34-9364E62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7C9D6D-1D4B-4093-A724-46ECA757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17B15-5854-49E3-ACC7-8756CD1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A1682B-DEF7-4E43-B1BF-72598A4A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9EF989-BE69-48D1-8A51-265BF8B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431578-13A1-4760-ABE3-3E93729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0C0B62-96DB-4BED-9957-CA904A6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3156-E1DD-48BA-9D48-FDDAA92E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EAF68E-644C-4C3A-AA33-F9581915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EF305-D1DA-4E23-B77B-014BC719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C78D46-41B4-463D-908A-771EF460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D92FF-75B9-42B2-B979-FEB7033D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791C9-4566-476C-8F85-A318E022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AFBB0-6CCD-4EA1-B9A5-4EF30D6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6355B-DE3F-4AD1-9F9D-BAC20F8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857E7-6CAC-4FAB-842E-E56095B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502F0-7766-4585-BA93-905BBDD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823C2-2337-4FAE-A794-1DAEB1B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7A779-4895-4507-8900-14932258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CEE5E-C8A4-4C52-98CC-C4D9E8D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F8D29-5767-47E9-AE49-21CE26A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5C020-2687-4941-9263-3732BED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CCD79-0422-4014-AEAF-E8229F0C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D0FAB-2327-4863-BC20-22C53BDA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12BC-F929-43E7-823D-1EA82DD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EFFA6-4D0E-4710-82D5-56B87E6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52739-22D9-4C2F-9C07-4AD35CA4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9C05-EE2A-4A55-B465-C546A7CC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3B10-F6E8-47F5-B362-3F4086C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282B-6C17-4D27-BC30-AAF1E132C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372CC-2B05-4993-9D68-4C213F3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CECF5-8075-4CC1-BE76-F405217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E5161-8317-44C8-AC17-2A25D8B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9489-97F0-41E0-996C-DE238CBC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BB11-0499-44B0-9EF2-2BD1F219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C0E89-E2EF-4B5F-84A9-3ED1F6E8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C8784-E83A-449B-9721-8467A279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2931D-6D1D-4E13-AB4B-F2CF9C9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BD101-8FD6-4DC0-93B2-C76B0CC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81B11-823F-4268-A008-52A0195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699-1037-4D99-8484-DC795B2ED4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10943-8C5B-4927-9B94-91BAF03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7A9E5-DF36-4B8A-899D-67A260A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27B58-AE56-4DEA-A1E7-5E0B998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C5083-E144-4548-8A0C-AD3C1FB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73EBC-C4C8-4B10-AFC8-A43C7A0E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B4415-7495-4E5E-BAFD-001F520F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FCB13-4C44-4E43-84BE-1995406A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FFFC3-E4F2-4B15-AF92-A8EECEF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D87A6-ED7B-42A9-BABF-15702EE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B6A45-7441-4B07-A700-3F47492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72F3-A89F-4695-9C27-2222125094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B37A4-B58F-4DD7-946F-6B7F076E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3334B-531F-4180-B447-613921B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F3DB9-8AC1-4D56-BC29-93CB74E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C546C-2C96-4696-BE7E-CCACEF1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70167-85AF-482F-AD0A-7F35AE7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D57E4-6838-4896-AB41-A9EF56C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12677-4D47-4EC4-9380-9029E275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C2DF9-ED05-43CA-957C-B2BC29D4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A1467-D2A3-4127-A4CA-668A655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3F892-BE20-4AE3-B91B-1AFB1FCF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CCFE-60D8-442D-9A2F-7550A10C77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EF719-A4B5-4A16-95B9-AA10BDD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93C88-68E4-4CC7-9012-0412F587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2F413-3425-4650-952C-E41AEFC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EA6AA-7C75-4E18-B0F1-EC437EFE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1D5A0-9FA5-4D5B-8BF1-FA1BA27F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8CCDF-5E98-4419-8516-9B967BB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40DE6-BD55-4AAF-8E2F-2B76269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59763-46C2-4775-97AC-E0D4240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F577A-7DF1-420D-A8EE-802CDA6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E77A0-02D6-48F8-92D8-42735D59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B7A3-C8AE-4F96-B8BC-2A478AE51E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17F21-3BE6-4567-9DFF-82F2F390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71BCD-059E-4A6A-BAE7-65CF4058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C55D6-C7CB-44C5-A3A7-36C31A5D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2D322-520D-441D-9EBA-4DFDBE3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4C8CE-1F7D-4619-9F36-5F35ECE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FEBFB-3E79-4B31-9D97-1D9E211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F1240-A67B-4CD2-A969-58338ABF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D2081-E082-4303-99BE-CC53230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B6B80-29F4-4C97-A342-7C50AE9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810AE-EFF3-43D2-B33A-F2197B3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A531-0FF9-4EB9-A92E-4DD128125F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D96D2-38A6-478B-AEFA-75670876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AFB5D-1F6C-4161-9DFB-ECFA53CC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88857-81ED-417D-9F9D-6645EC42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B206B-0832-48F1-9D78-CE419BE2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D8B6F-E346-4D46-916C-01CAF4F2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02DD4-CD22-48B9-BAA2-D01156A7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983FC-272B-4FA9-81CE-07BAE37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1F792-A81A-4225-A063-3CDDEB72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1869B-1AF9-4D74-A810-3E49970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D8B69-D3D8-42F2-8A1D-956EC00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0C80-DD89-4BA6-B8D5-C8843F632F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5F16F-44F8-4714-8AFC-11EF308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068C0-2C58-401B-82D1-EB70222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67579-D86D-4ED0-A295-C831A87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FDEAD-9C56-42B2-9964-815D7A9D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56EA4-47D4-4A97-A485-4895F6C2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01CC1-AF4C-43A5-B748-A78ED39472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BFF33E-2A2B-4A27-99EF-0B7DA929EC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8F966B-5D93-4521-8D15-DCE9428E56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7654E3-132F-4185-A072-B32DB9163D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0906E-C41E-4F2C-9555-8256749A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AA6A-E718-4169-9E6B-AE2D852E3D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903D5-8837-4C40-B532-F7E80FF8C5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B0AAD-4D95-4683-BC67-24615E8A3F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36B57-E388-4EEB-8319-52FB916E8C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0D1A4-63CB-43B6-9BF5-2C796F64AA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A04C53-2CA5-460A-8E5F-D20907D5DB4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08E2A-05D0-4E69-9443-5815BE3904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35536-9E80-47BE-BB40-A9899006D06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24E0C-88CB-410D-830D-2192CE44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121B5-1A73-4525-AF88-B04BB708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6E88B-D60A-4095-B181-9C3FE114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CA2B-D8E7-4676-AEE6-A06773F3A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9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7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F24-F43C-4886-A2C4-AA5769B2A9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7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A27-C2F5-4D1A-876E-690E6B1C5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FBB-82B0-48F5-813C-3FA542B3FD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0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AF20-73D7-44D5-9EB3-32A9D7D610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149-DA1F-4880-B61B-7F99EAE9A6A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3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938A-0C58-4D7E-AA14-3363060CE2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1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28D1-C89D-4FE7-8885-EEFB937AD2E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24D-775E-4909-B53B-9401B35B4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F930-1D71-4E14-93EC-06F89A36DE6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D96-CB87-4EE3-9C84-2DEFF0A97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Chevron 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E6B-468C-4D04-9AD5-2063DF64B13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0D5B-3373-484C-BF6A-C45CAD8EEB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06F-6659-485C-B548-6DC8F0B8A34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180-201C-4AF6-B5A0-EC669D229D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1CB-3E2E-4054-9BDA-C5DB981CB4A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17F-61DC-4ADE-A2BB-5FA81569C2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50C-0F43-413E-A6BC-8D45A10F3EA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F545-1D19-4149-A2D5-2639B7FFBA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cornerstone-christian-church-logo.png"/>
          <p:cNvPicPr/>
          <p:nvPr/>
        </p:nvPicPr>
        <p:blipFill>
          <a:blip r:embed="rId4"/>
          <a:stretch/>
        </p:blipFill>
        <p:spPr>
          <a:xfrm>
            <a:off x="-6480" y="6321600"/>
            <a:ext cx="207324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1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3AF3-3C46-4570-89D3-24207D281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C206-257F-4DC5-8D7D-095FDC81AD5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0C8-B0B5-4CA0-BE79-BC56D39A61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298440" y="1566720"/>
            <a:ext cx="7149960" cy="15544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2015 Strategic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6" name="Picture 4" descr="cornerstone-christian-church-logo.png"/>
          <p:cNvPicPr/>
          <p:nvPr/>
        </p:nvPicPr>
        <p:blipFill>
          <a:blip r:embed="rId2"/>
          <a:stretch/>
        </p:blipFill>
        <p:spPr>
          <a:xfrm>
            <a:off x="-6480" y="6089760"/>
            <a:ext cx="2951280" cy="774720"/>
          </a:xfrm>
          <a:prstGeom prst="rect">
            <a:avLst/>
          </a:prstGeom>
          <a:ln w="0">
            <a:noFill/>
          </a:ln>
        </p:spPr>
      </p:pic>
      <p:sp>
        <p:nvSpPr>
          <p:cNvPr id="567" name="Footer Placeholder 5"/>
          <p:cNvSpPr/>
          <p:nvPr/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Eng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 in deepening their daily walk with Jesus Chr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Equi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&amp; challenge men to share their faith &amp; the message of Jesus Christ with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er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locally &amp; global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Footer Placeholder 3"/>
          <p:cNvSpPr/>
          <p:nvPr/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4876920" y="838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en of Cornerstone seek 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ild a Community Centered on Jesus Chri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nerously Investing in the Next Gener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rving a World in Ne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74" name="Footer Placeholder 3"/>
          <p:cNvSpPr/>
          <p:nvPr/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Build a Community Centered on Chris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Worship Events that draw men, build faith and foster connection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Offer &amp; promote small groups (men’s &amp; co-ed)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Offer &amp; promote service opportuniti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Investing in the Next Generation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Parenting Small Groups &amp; Seminar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Intentionally inviting all generations of men to events &amp; service opportuniti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Encourage involvement in Youth &amp; Kids Ministries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1 on 1 relationships through the ConectGEN Mentoring Program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Serving a World in Need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Offer Men’s Service Day(s)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Encourage &amp; promote weekly Servants Heart Ministry opportuniti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Encourage &amp; promote local ministry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Summer Harvest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Star of Hop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Relief Bu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Solid Foundation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amp Shiloh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Missions Trips (Winter in New Orleans &amp; Summer in TBD)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450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ornerstone-christian-church-logo.png"/>
          <p:cNvPicPr/>
          <p:nvPr/>
        </p:nvPicPr>
        <p:blipFill>
          <a:blip r:embed="rId2"/>
          <a:stretch/>
        </p:blipFill>
        <p:spPr>
          <a:xfrm>
            <a:off x="-6480" y="6321600"/>
            <a:ext cx="20732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auhaus 93"/>
              </a:rPr>
              <a:t>Plug I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 multiple inputs to serve Christ with a focus on core sponsored ministr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rvant’s Hea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ief B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Footer Placeholder 7"/>
          <p:cNvSpPr/>
          <p:nvPr/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itle 3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33520" y="1371600"/>
            <a:ext cx="8204040" cy="4114800"/>
          </a:xfrm>
          <a:prstGeom prst="rect">
            <a:avLst/>
          </a:prstGeom>
          <a:ln w="0">
            <a:noFill/>
          </a:ln>
        </p:spPr>
      </p:pic>
      <p:sp>
        <p:nvSpPr>
          <p:cNvPr id="583" name="Footer Placeholder 4"/>
          <p:cNvSpPr/>
          <p:nvPr/>
        </p:nvSpPr>
        <p:spPr>
          <a:xfrm>
            <a:off x="4379760" y="6408720"/>
            <a:ext cx="34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 - NOT INTENDED FOR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2:56:44Z</dcterms:created>
  <dc:creator>Admin</dc:creator>
  <dc:description/>
  <dc:language>en-US</dc:language>
  <cp:lastModifiedBy>Admin</cp:lastModifiedBy>
  <dcterms:modified xsi:type="dcterms:W3CDTF">2014-09-23T09:49:29Z</dcterms:modified>
  <cp:revision>44</cp:revision>
  <dc:subject/>
  <dc:title>Jericho Road/CCC</dc:title>
</cp:coreProperties>
</file>